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343-A189-4CC2-8649-E02A4F57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EBE-7645-4B32-967C-D9EE460C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31C-5276-4FDB-8EDD-688FC21B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587-6937-4E7E-AE49-BA99B4CB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EE6-734A-4774-AB0A-CAEC3E15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8A3-549A-479C-92FD-8209FC7C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9B5-7E83-4A5E-8673-C9C9201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730-6A3B-4A9F-B82F-2922E03D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C76-E23B-4384-BE95-63531187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EC0-DE81-45B4-9654-30DAF48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B7C-7D20-4A76-A92F-5E38CA9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065-8058-4B08-B93C-37DD15D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49F4-95AC-4ACA-A44E-05AC8C78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15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items for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Vipul’s slide for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explain with 2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360" y="380880"/>
            <a:ext cx="168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09960" y="380880"/>
            <a:ext cx="309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Substance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685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98600" y="3808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914400"/>
            <a:ext cx="4724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5760" y="14479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onsum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3840" y="2057400"/>
            <a:ext cx="1978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u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7440" y="3809880"/>
            <a:ext cx="1104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starta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6840" y="30481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1920" y="190512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dos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5640" y="236232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16600" y="2362320"/>
            <a:ext cx="27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80920" y="914400"/>
            <a:ext cx="2210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33680" y="2209680"/>
            <a:ext cx="59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704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88960" y="13716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out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29200" y="91440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914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360" y="123048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at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914400"/>
            <a:ext cx="2514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2280" y="35812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6800" y="6031080"/>
            <a:ext cx="787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0920" y="50292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712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040" y="6019920"/>
            <a:ext cx="695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029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168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340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3160" y="6031080"/>
            <a:ext cx="92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rt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6920" y="50292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384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8600" y="6019920"/>
            <a:ext cx="109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3/2005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5029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840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914400"/>
            <a:ext cx="4572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2840" y="3429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3657600"/>
            <a:ext cx="1066680" cy="5335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572000"/>
            <a:ext cx="1523880" cy="6858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403848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3747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62720" y="2895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6272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qualifiers from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FillerOrder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“Vital Signs” class and make all its siblings subClassOf OWL: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hasData property to all the vital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“item” properties and made them more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14T22:04:16Z</dcterms:modified>
  <cp:revision>85</cp:revision>
  <dc:subject/>
  <dc:title>Slide 1</dc:title>
</cp:coreProperties>
</file>